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2868-9711-415F-A54A-DEBB5F2C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59F8-1734-4192-98A2-A65ECDFD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E4C-EEBF-4728-ABDD-01C2AF31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C39B-E0D1-4B7F-B32C-580DDB89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701F-5392-4ABE-98E2-10858CAD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DBC5-1656-47A8-9FD8-7F1A9340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E59D-28EF-4D40-A384-EBA024DA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60D0-B833-4494-900B-EA1A53DD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8D9C-5918-4109-B8FC-094E4237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81B6-8F6C-48AB-B47A-29EC7E0F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4486-C5CB-4E3A-A6E5-4ABB4276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39E-FE68-45F2-8CE3-54EF3B3F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49D0-F977-4B5F-929D-0FCD18AF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52D2-FAE2-4576-80D6-FB175625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5457-08ED-431E-89E7-66B0610B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A8C6-9EA8-4246-A6A7-73CD1FA5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6966-4303-4876-B01D-6DB8587A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6C0C-50C8-4FDC-8899-3E24337B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F555-9D88-4BBD-9D8E-061843FC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6AF-27A7-4AB5-9AEE-5BD0539D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EF4F-B33B-4798-9DE0-DEC9651B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116-270C-4790-9215-F0CCFCB5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A982-BC47-48D4-A22C-3611C1ED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0023-BD02-49C3-9655-40B26CAD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1640-51D9-4F05-8000-E217DBAD6D1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3A6D-9C4F-4890-BF3E-92CCEAAF174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ur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nounc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py H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 Practic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i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our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e today: outline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re you learning about your topic?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 your opinion changed?  Did you have a hard time researching?  What has help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py HW due Wed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sed Outline (complet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i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½ day w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 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re the 3 parts to the thesi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main ideas are listed in the bod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the main ideas match the thesis?  Expl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revisions does the body nee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4:59:10Z</dcterms:created>
  <dc:creator>Tucker</dc:creator>
  <dc:description/>
  <dc:language>en-US</dc:language>
  <cp:lastModifiedBy>Tucker</cp:lastModifiedBy>
  <dcterms:modified xsi:type="dcterms:W3CDTF">2010-05-24T22:40:46Z</dcterms:modified>
  <cp:revision>2</cp:revision>
  <dc:subject/>
  <dc:title>Agenda</dc:title>
</cp:coreProperties>
</file>